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60E-7C92-4B45-AF99-AFC3450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512-CBDD-4A3F-9251-FEAA5A94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340-BDCA-4860-879A-00EA8C16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036-4BB8-4820-BCF9-BA975DD7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4DF3-372F-4FA9-A347-CF8B6A30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E5C0-4BF7-475B-B6AC-EDFE83BD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8CA-7DDE-4523-9CCE-5BC7E12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208-BBAB-410E-B18A-075D9733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956-FD14-46B6-9F16-3D85B500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4F58-E204-4B28-8E07-0449232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E636-25DA-4245-99A4-CBB7744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4BF-07EC-476D-AD91-1D117105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F927-D6E8-43A8-923C-0025C07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045B-A1CD-41F3-9EFD-DCBE3B6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98DD-BFB5-49BB-8239-1DEF802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7DF0-F69A-42F8-BC2C-21B46101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A0D3-84E2-4984-8E73-59D51282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1BD-9FCE-4169-8A16-BACB466A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C85-C33D-433B-97E7-E38BB1EC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B55-6054-49D2-8417-277A4BA2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232-6136-4145-A257-9C8536CF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A13-4F86-4B91-9317-B7D3432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FF1-E0DB-4606-AEB2-7D38265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AC4-0948-4990-A099-403558D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1A7-97D5-4EF3-8466-4BE5749B2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FE85-ACEF-4A93-80DF-B3582CB33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hyfiles.org/090doping_sport/images/redblood.jpg&amp;imgrefurl=http://whyfiles.org/090doping_sport/3.html&amp;h=158&amp;w=222&amp;prev=/images%3Fq%3Dred%2Bblood%2Bcells%26svnum%3D10%26hl%3Den%26lr%3D%26ie%3DUTF-8%26oe%3DUTF-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4anemia.com/what_is_anemia/images/photos/red_blood_cells.jpg&amp;imgrefurl=http://www.4anemia.com/what_is_anemia/what_01.htm&amp;h=167&amp;w=159&amp;prev=/images%3Fq%3Dred%2Bblood%2Bcells%26svnum%3D10%26hl%3Den%26lr%3D%26ie%3DUTF-8%26oe%3DUTF-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Chapter 1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The Body’s Drink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Rh Blood Gro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blood group that was first studied in the Rhesus mon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+  - Rh antigens on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-  - Rh antigens are no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cause a problem in pregnancy if mother is Rh- and baby is Rh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her will make antibodies against the 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 – mother gets shot of Rho immune globul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ythr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ve ~ 120 days in males and 110 days in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 oxygen and remove CO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hemoglobin – pigment – red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3623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rythr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globin bound to oxygen is bright red in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globin that is without oxygen is darker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/3 of body’s iron is found in hemogl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049480"/>
            <a:ext cx="3809880" cy="397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ry of RB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.5 million RBC are destroyed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RBC are produced as quickly as they are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opoiesis – process of blood cell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blood oxygen level will cause RBC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cells are formed in red marrow in b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undice – a build up of bilirubin in circulation causing a yellow skin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Bone Marr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Marrow – found in spongy bone and forms WBC, RBC, and plate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 Marrow – composed of fat and is not capable of blood cell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ge 20, blood formation occurs in humerus, femur, cranium, ribs, sternum, clavicles, vertebr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uk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herical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ish color because they lack hemoglo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than R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s against microorg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person’s WBC count is high -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images" descr=""/>
          <p:cNvPicPr/>
          <p:nvPr/>
        </p:nvPicPr>
        <p:blipFill>
          <a:blip r:embed="rId1"/>
          <a:stretch/>
        </p:blipFill>
        <p:spPr>
          <a:xfrm>
            <a:off x="762120" y="2489040"/>
            <a:ext cx="3809880" cy="324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 Major Types of Leuk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ulocytes – contain large cytoplasmic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anulocytes – contain small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3 Kinds of Granul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phils – most commo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ains is blood ~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–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d cell debris forms pus at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osinophils – release chemicals that reduce inflam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ophils – help regulate inflammatory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histamine = promotes inflam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heparin – prevents c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 Types of Agranulocy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ymphocy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mall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s important role in body’s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anti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cy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larg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y leave the blood and into the tissue – they become macroph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phages – destroy bacteria, dead cells, and other deb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mbocytes – minute fragments of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in red m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blood loss by causing blood clo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mages" descr=""/>
          <p:cNvPicPr/>
          <p:nvPr/>
        </p:nvPicPr>
        <p:blipFill>
          <a:blip r:embed="rId1"/>
          <a:stretch/>
        </p:blipFill>
        <p:spPr>
          <a:xfrm>
            <a:off x="685800" y="248436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- 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– a type of connective tissue that consists of cells and cell fragments surrounded by a liquid  matr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iquid portion is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blood volume for avg. adult female = 4 to 5 liters and avg. adult male = 5 to 6 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makes up about 8% of total body 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venting Blood Los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vessels constrict in response to injury, resulting in decreased blood f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telet plug is produced to seal off the w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otonin is released to cause the blood vessels to constri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od clot – thromb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lus – detached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heart attack can occur from blockage of blood vessels that supply blood to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ptokinase and aspirin can be given to break down the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f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usion – transfer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or – person who gives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ient – person who receives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Donor – Type O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Recipient – Type AB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lete Blood Cou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BC – complete blood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of RBC, hemoglobin, and W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BC – male – 4.6 to 6.2 million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– 4.2 to 5.4 million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BC – 5000 – 9000/mm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moglobin Measur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d amount of hemoglobin in a given volume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 – 14 to 18 grams/100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– 12 to 16 grams/100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hemoglobin – anemia – low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Functions of Blo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s oxygen, nutrients, enzymes, and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s CO2 and waste products away from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body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body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Fac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 enters blood in the lungs and CO2 enters blood from tissu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of the volume of blood consist of RBC or erythr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% consists of WBC or leukocytes and cell fragments called platelets or thromb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Group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groups are determined by antigens on the surface of RB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gens are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odies will bind to the antigens resulting in agglutination or hemolysis or RB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lutination – clumping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lysis – rupture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ABO Blood Grou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is categorized by the ABO Blood group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 antigens appear on the surface of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Blood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Blood – A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Blood – B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Blood – A and B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Blood – does not have A or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Population Distrib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– 4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– 1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–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– 4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+ - 8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- - 1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Blood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 Blood – B anti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B Blood – A anti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AB Blood – does not have A or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 Blood – has A and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matching Blood groups can result in transfusion rea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7:27:32Z</dcterms:created>
  <dc:creator>Covin</dc:creator>
  <dc:description/>
  <dc:language>en-US</dc:language>
  <cp:lastModifiedBy>Covin</cp:lastModifiedBy>
  <dcterms:modified xsi:type="dcterms:W3CDTF">2003-10-21T23:30:17Z</dcterms:modified>
  <cp:revision>33</cp:revision>
  <dc:subject/>
  <dc:title>Chapter 10 Blood</dc:title>
</cp:coreProperties>
</file>